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7AB-0BC6-4804-B0EA-02B920985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A983-4622-404F-89AA-14EEB8ECA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861-434C-449C-893C-F0F9984831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8C94-1033-4275-BA82-E48DB9A098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64EA-650C-41BE-B1DB-AB1011921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333D-5DF3-422B-85E2-06C98FA7EC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73B-2C32-4297-8B78-18D3BC7BE6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DAB1-ABDF-4E93-B02B-56C725C29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33F-B432-4ABF-8235-6E16B98E66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5603-C71C-46E4-AB50-BAFBAC3AF3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AA64-10A2-43CC-906E-86559ED50F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EB61-B06C-46B3-860A-7D65ACF948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CA4A-392E-4123-8BC1-2AB13678DE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95DB-7C9B-4E1A-AD0C-0994AB4B37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8E07-DB7D-48C8-9D3C-111E829622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DD38-502B-4A76-B977-1D33B09D7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7CAA-3DCC-4E40-8FAF-954810EB7A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DA4-681F-4FA3-A29E-3202559AB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5680-4E6F-4882-98EE-BED5A44B1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AFDA-D0D2-4CBA-AB4D-9DE0DC6DE5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1DE-051B-4645-936A-4F5DCAFE7C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066-6F86-4CB1-B91C-2DFB4D2FE5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C185-DCAE-4BB6-B5F5-8204732D17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1BF0-3769-4F91-A4F8-4A5EEAF3CA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E454-4289-4CE9-8C61-4602EFA329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A88-5734-41FF-BA3A-C1459ABE35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358F-7B61-4944-8B78-7AA68D27D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E14A-FAD7-40EE-99BB-AF79BFA72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2553-587B-4667-928A-54F8482234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C950-C5C7-4749-95DF-701BB42E63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76C4-8475-4D5A-89C4-FA858730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DB4A-C086-422E-8F15-13A93DD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4A8E-4AB2-44D1-B329-36F8FE7B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7AF3-137D-4FDE-9BF7-B43D1A7D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1C3B-F84D-4A92-BD36-EE9CBC53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C67B-A836-49B5-9945-5CF80E82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1435-DC68-43BD-8353-84833AC5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B075-C10B-49A4-8793-2B5C531A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640E-5ACE-435D-BB52-4BA0AB85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20F4-E513-4104-9252-DE487BFA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CDBC-B75D-44F0-84D4-F50582EC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40E9-4624-4E8B-9EA8-32A7BB07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D540-4A49-4B99-9210-F0B2525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A143-F71F-4D75-AAE8-3C0418D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276E-765A-4BE8-9ECD-81A74E7E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2536-1924-40F9-91AB-46224506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64E0-D459-4324-AB1E-41298EC1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2DAA-8A3F-42D7-AF5F-3F664721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3007-348E-4FF5-B024-BCD4F3BC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1F1F-D3BA-4A57-B5CA-75FC0EDB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DAA6-491A-441F-99AB-96877B51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059F-232C-4CDD-B956-FD01ECBA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B84E-225C-451D-9A9D-149B065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7B48-1152-43D6-B1B6-35CBF00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500C-E811-4FD7-ABF9-835DC02B15A6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0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A0B0-7725-4F14-B9B4-C33B8FE035E4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s 101</a:t>
            </a:r>
            <a:br>
              <a:rPr sz="4000"/>
            </a:br>
            <a:r>
              <a:rPr b="1" lang="en-US" sz="3200" spc="-1" strike="noStrike">
                <a:solidFill>
                  <a:srgbClr val="fafd00"/>
                </a:solidFill>
                <a:latin typeface="Monotype Corsiva"/>
              </a:rPr>
              <a:t>or</a:t>
            </a:r>
            <a:br>
              <a:rPr sz="32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Hospital Acquired Pressure Ulcer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What you need to know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9440" y="412704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Kristin Moeller, M.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uly 200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f I identify a 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H &amp; P (or Progress No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orders as an admit diagnosis, either as a primary or secondary diagno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orders for wound c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y the Charge Nurse and fill out a SERS repo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ure? Ask a Staff member for help (Attending M.D. or Charge Nurs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ing Basics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e intimidated, the rules are eas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Pressure Ulcers are stage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(surgical, venous stasis, neuropathic/diabetic ulcers)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ound never “regresses” in st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ge 2 is always a Stage 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heals, it becomes a “healing Stage 2 ulcer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2038320" y="152280"/>
          <a:ext cx="506736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52280"/>
                    <a:ext cx="506736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1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anching erythema over a pressure point; area may be painful, firm, soft, warm or coo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e skin is intac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1171" t="12101" r="3761" b="12561"/>
          <a:stretch/>
        </p:blipFill>
        <p:spPr>
          <a:xfrm>
            <a:off x="2500200" y="3429000"/>
            <a:ext cx="4129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2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thickness disruption of the dermis with shallow red/pink wound b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lough; no undermining or tunnel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is includes blister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5" descr="CNCD0003_27Jan"/>
          <p:cNvPicPr/>
          <p:nvPr/>
        </p:nvPicPr>
        <p:blipFill>
          <a:blip r:embed="rId1"/>
          <a:srcRect l="0" t="0" r="0" b="29089"/>
          <a:stretch/>
        </p:blipFill>
        <p:spPr>
          <a:xfrm>
            <a:off x="2362320" y="3886200"/>
            <a:ext cx="43434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kin Tear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 not confuse a Stage 2 Pressure Ulcer with a skin te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4" descr="skintear"/>
          <p:cNvPicPr/>
          <p:nvPr/>
        </p:nvPicPr>
        <p:blipFill>
          <a:blip r:embed="rId1"/>
          <a:stretch/>
        </p:blipFill>
        <p:spPr>
          <a:xfrm>
            <a:off x="2514600" y="327672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3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loss with disruption of the dermis and into SubQ; may have slough, tunneling,undermining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, tendon or bone is expos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>
            <a:lum contrast="20000"/>
          </a:blip>
          <a:srcRect l="4003" t="4197" r="52062" b="3554"/>
          <a:stretch/>
        </p:blipFill>
        <p:spPr>
          <a:xfrm>
            <a:off x="457200" y="343368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Tunneling 2"/>
          <p:cNvPicPr/>
          <p:nvPr/>
        </p:nvPicPr>
        <p:blipFill>
          <a:blip r:embed="rId2"/>
          <a:srcRect l="0" t="0" r="10528" b="0"/>
          <a:stretch/>
        </p:blipFill>
        <p:spPr>
          <a:xfrm>
            <a:off x="4800600" y="3429000"/>
            <a:ext cx="38862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4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deeper disruption, which disrupts the fascia and may or may not involve muscle, bone, tendon or liga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does not necessarily go to bone but be suspicious for osteomyeliti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PU Cavity"/>
          <p:cNvPicPr/>
          <p:nvPr/>
        </p:nvPicPr>
        <p:blipFill>
          <a:blip r:embed="rId1"/>
          <a:stretch/>
        </p:blipFill>
        <p:spPr>
          <a:xfrm>
            <a:off x="2857680" y="4038480"/>
            <a:ext cx="33908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ep Tissue Injury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ple or maroon localized area of discolored intact skin or blood-filled blister due to damage to underlying soft tissue from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Object 3" descr=""/>
          <p:cNvPicPr/>
          <p:nvPr/>
        </p:nvPicPr>
        <p:blipFill>
          <a:blip r:embed="rId1"/>
          <a:srcRect l="0" t="10326" r="-186" b="20668"/>
          <a:stretch/>
        </p:blipFill>
        <p:spPr>
          <a:xfrm>
            <a:off x="3048120" y="3276720"/>
            <a:ext cx="4181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Deep Tissue Injury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rea may be preceded by tissue that is painful, firm, boggy, warmer or cooler as compared to adjacent tissu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Evolution may be rapid exposing additional layers of tissue even with treat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Learning Objective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definition of a Hospital Acquired Pressure Ulcer (HAPU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significance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stage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who is at risk for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prevent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injury in which the base of the ulcer is covered by slough (yellow, tan, gray, green, brown) or eschar (tan, brown, black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6" descr="Sacral Eschar #1"/>
          <p:cNvPicPr/>
          <p:nvPr/>
        </p:nvPicPr>
        <p:blipFill>
          <a:blip r:embed="rId1"/>
          <a:stretch/>
        </p:blipFill>
        <p:spPr>
          <a:xfrm>
            <a:off x="5200560" y="3962520"/>
            <a:ext cx="3257640" cy="259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Slough"/>
          <p:cNvPicPr/>
          <p:nvPr/>
        </p:nvPicPr>
        <p:blipFill>
          <a:blip r:embed="rId2"/>
          <a:stretch/>
        </p:blipFill>
        <p:spPr>
          <a:xfrm>
            <a:off x="1066680" y="3962520"/>
            <a:ext cx="3276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75" name="Picture 4" descr="Don't debride heels"/>
          <p:cNvPicPr/>
          <p:nvPr/>
        </p:nvPicPr>
        <p:blipFill>
          <a:blip r:embed="rId1"/>
          <a:stretch/>
        </p:blipFill>
        <p:spPr>
          <a:xfrm>
            <a:off x="2978280" y="3930480"/>
            <a:ext cx="3193920" cy="254664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Special care must be taken with heel ulcers.       Do NOT unroof unless aided by an experienced physician. They may be better left inta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95200" y="122400"/>
          <a:ext cx="8553600" cy="66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22400"/>
                    <a:ext cx="8553600" cy="66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wounds moist but not too moi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ride any necrotic or excess fibrinous tissu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, chemical or autolytic debridem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getting near bone, tendon or ligament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til you have more experienced hands &amp; eyes with yo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ess the wound is a Stage 4 or causing sepsis, this can all be done slowly and cautiousl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 to dry dressing with Saline will get you through the nigh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the new primary team in the AM, look at the identified wound a.s.a.p. and begin to formulate a treatment pla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II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/reassess prevention strategi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 reducing mattr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mob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Nutr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 devic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kin hygie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communicate with your patient &amp; caregiver in his/her native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ower your patient to partake in his/her car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6320" y="216000"/>
          <a:ext cx="8991360" cy="64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6000"/>
                    <a:ext cx="8991360" cy="64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und Care Team</a:t>
            </a: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Wound Wednesdays”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1:  Educate!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2:  Prevent Pressure Ulce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3:  Prevent worsening of Pressure Ulcers (avoid progression to Stage 3 or 4)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4:  Help guide treatment via interdisciplinary team approach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5:  Planned Obsolescence!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paperwork!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, they are com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Documentation and order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-up documentation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week or for any significant change of statu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Initial Documentation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2362320" y="1143000"/>
          <a:ext cx="43052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4305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to – op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ressure Ulc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ust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on diagnosis and Q week on Wednesday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s are uploaded in PACS (yup, with the Xray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 to document wound progr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1932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ocalized skin injury which develops as a result of unrelieved pressu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ly over a bony promin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s a result of a medical device (Fole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is a result of shear or friction forces combined with press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rief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ian must be part of documentation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 documented on admit H &amp; P to document that it was not caused at our fac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for help as we are all learning this new syst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ospital-acquired pressure ulcer)</a:t>
            </a:r>
            <a:endParaRPr b="1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2160" y="1979280"/>
            <a:ext cx="769968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PU is the new buzz-word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of HAPU is k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Stage 1 and 2 ulcers from progression to Stage 3 or 4 is the next go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CMS (Medicare/Medicaid) wil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no longer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reimburse for treatment of Stage 3 or 4 pressure ulcer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acquired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at our hospit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e 3 and 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s are reportable ev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cquired at CCRM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present on admission fill out SERS (Safety and Event Reporting System) report on comput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ormation goes to Hospital Administration and the State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hat"/>
          <p:cNvPicPr/>
          <p:nvPr/>
        </p:nvPicPr>
        <p:blipFill>
          <a:blip r:embed="rId1"/>
          <a:stretch/>
        </p:blipFill>
        <p:spPr>
          <a:xfrm>
            <a:off x="4191120" y="5486400"/>
            <a:ext cx="6858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’s at risk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, OK, not everyone but lots of our pati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sk facto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mobility, poor nutrition, critical illness, chronic disease, dehydration, incontinence, fever, infection, poor sensation, obesity, age, medications, and various other medical diagno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se job is it to prevent Pressure Ulcers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’s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skin, especially in high risk patie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what you se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, no ulcer/intact skin, color cha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tage 3 or 4, document in H &amp; P and fill out SERS or bring to attention of the Charge Nur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can stage the ulcer, great; if not, talk to an attending or the nurses to help yo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???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, complete patient ca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 ulcer on admission, prevent o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an ulcer, heal it &amp; prevent worse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$$$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S is one of our main sources of reimbursement – we are charged with caring for some of the most vulnerable members of the pop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have to do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 a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ed to Look and Documen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skin exam on H &amp; 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skin regularly, especially in high risk patients and document updated ex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help from Attending Staff or Nursing regarding staging and treat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ursing brings an ulcer to your attention – see it and document it a.s.a.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4:29:09Z</dcterms:created>
  <dc:creator> </dc:creator>
  <dc:description/>
  <cp:keywords/>
  <dc:language>en-US</dc:language>
  <cp:lastModifiedBy>HCMARTINEZ</cp:lastModifiedBy>
  <dcterms:modified xsi:type="dcterms:W3CDTF">2009-07-21T17:35:57Z</dcterms:modified>
  <cp:revision>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01033</vt:lpwstr>
  </property>
</Properties>
</file>